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ADF37C-C413-41D2-A720-2053034B2A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9C696-7ACD-40FD-9173-8D6546D3F4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democracy may have its faults, most people in democracies still believe it is the best form of government. (p.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05E4E-EF91-4CD8-ABF5-F9CBF48A6BF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erson, one vote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quate and equal opportunities to express their preferences through the decision-making process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e press and free speech. No group monopolizes the marketpl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ernment addresses issues important to the public as a whole, not a select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jority’s desire is to be respected, but those who do not belong to the majority are guaranteed righ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5CC056-1C08-4BEE-A670-CC301C8D3A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5EE8A-CD91-4328-8DE8-54F5B27C92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role does the media pla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1E0465-091D-4D9E-8B81-0B5886F9CD1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holds power and who influences the policies adopted by the government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government do what we want it to do? Government vs. individual responsibil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847354-43C9-4222-820C-27D78B63A30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 focuses on wh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92B5B1-526E-4D84-940E-D7A73224E3A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 focuses on wh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37A59-2901-4EB5-9B64-1A18FED8B0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cy is not limited to laws passed by Congress. It may include executive decisions, Supreme Court rulings, budgetary choices, or bureaucratic regulation – see Table 1.1 on p.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5910CC-B9A7-4C14-8A1A-6396F5B80C9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EBFA-9FE8-4C35-A8CB-7F0B6E85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84FB-FE58-43AF-993D-4CC24C55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4AAA-E54B-4BB4-BDEB-D17132C0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F11F-D137-4481-9E0B-2165C2D9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1A3A-B932-4864-A48A-AE92EC8C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838D-E99A-4A8F-B3C3-A4BBA432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ED30-A28C-499C-8E81-4871F701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2085-169D-419A-81E2-5321B0B7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4F76-68A6-4FDD-858D-94B3F612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4588-DDA3-416B-AA20-22B8D38B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43E9-A9A4-4E07-A4E2-27C5271A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FDE6-6A2F-48F7-BE3C-563A117E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C152-67CD-4E6A-8EFE-93CB480A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9F46-A33A-4645-8035-1CDB84CB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5700-7139-41B8-BD0F-B2881B2F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7B46-C859-43D5-96F6-B00A4730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E94C-D837-4763-8BA5-F25A6E25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9AC1-03C5-4459-9AAC-3200BB25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DA27-F789-4B2D-B218-319548B3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ED92-FD53-4ECA-922A-CA3909F6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B79-B828-43B0-AEFB-EBD64726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4BC5-24CF-40B4-8C11-1B1563C8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99D9-3C56-4F1A-B257-5FE1FA27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2174-BD48-4F19-9B9C-03F05324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FA01B-C298-4546-9712-CB40F50717C9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0E5D9-FA77-45C6-ABE8-33EBFADC4A1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FE200-6670-47C8-90CE-08CDC84A1BCB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72FDC-F477-46C8-A34C-B19CB507684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roducing Government in Americ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Screen shot 2011-08-23 at 4.53.02 PM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mocrac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438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ystem of selecting policymakers and of organizing government so that policy represents and responds to the public’s preference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5181480" y="2023920"/>
            <a:ext cx="317340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mocratic The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quality in Voting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ffective Participat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nlightened Understand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itizen Control of the Agend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lus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jority Rule vs. Minority Righ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mocrac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ree Theories of American Democrac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Pluralist Theor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litics is a competition among group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 one group domina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Elite Theory: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 upper-class elite control governmen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Hyperpluralism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ny strong groups competing hinder government’s ability to perform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allenges to Democrac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Technical Expertis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rd for citizens to make well-informed decision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mited Participation in Governmen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mericans know little about leaders and policy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scalating Campaign Cost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nection between money and politic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reased influence of PAC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verse Political Interes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licy gridlock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merican Political Culture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Political Cultur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An overall set of values shared by most members of societ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ments of American Political Culture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berty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galitarianism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dividual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issez-Fair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pulism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Scope of Govern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Fundamental Ques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Is the government responsible for ensuring important societal goals (such as adequate healthcare or fair business practices) are achieved?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overnment Matt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703440" y="1598760"/>
            <a:ext cx="1944360" cy="2430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3284640" y="2014560"/>
            <a:ext cx="2608200" cy="1743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4"/>
          <a:stretch/>
        </p:blipFill>
        <p:spPr>
          <a:xfrm>
            <a:off x="3754440" y="4029120"/>
            <a:ext cx="1689120" cy="2435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5"/>
          <a:stretch/>
        </p:blipFill>
        <p:spPr>
          <a:xfrm>
            <a:off x="6257880" y="1878120"/>
            <a:ext cx="24289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Young People are Politically Apathetic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y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think they can’t make a differe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think the political system is corrup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don’t ca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the benefits of being informed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stering Civic Virtu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formed Vo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tive Political Participat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overn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nstitutions and processes through which public policies are made for a society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ssential Ques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How should we govern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What should government do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5834160" y="3478320"/>
            <a:ext cx="29638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overn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asic Functions of Govern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intain National Defen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vide Public Servi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eserve Ord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cialize the You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llect Tax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6122880" y="1600200"/>
            <a:ext cx="2602080" cy="1893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3"/>
          <a:stretch/>
        </p:blipFill>
        <p:spPr>
          <a:xfrm>
            <a:off x="4619520" y="3902040"/>
            <a:ext cx="40672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li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rocess by which we select our governmental leaders and what policies these leaders purs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Who gets what, when, and how.”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Lasswell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o: Voters, Candidates, Groups, Part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: Issues, Services, Benef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w: Voting, Lobbying, Protes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li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Political Participa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All the activities used by citizens to influence the selection of political leaders and the policies they purs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: voting, protesting, civil disobedience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mericans’ participation very low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licymak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rocess by which policy comes into being and evolves over ti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ssential Compon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nkage Institution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licy Agend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licymaking Institu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licy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4951440" y="3265560"/>
            <a:ext cx="3735360" cy="24318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4120200" y="32446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23:58:39Z</dcterms:created>
  <dc:creator>Katie Madison</dc:creator>
  <dc:description/>
  <dc:language>en-US</dc:language>
  <cp:lastModifiedBy>FAdmin</cp:lastModifiedBy>
  <dcterms:modified xsi:type="dcterms:W3CDTF">2012-11-27T01:05:27Z</dcterms:modified>
  <cp:revision>28</cp:revision>
  <dc:subject/>
  <dc:title>Introducing Government in America</dc:title>
</cp:coreProperties>
</file>